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41B7-8F7F-4E02-9F46-F525B7ACE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E3BC-F554-4E98-8C26-F515011A4D90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пирус и гроб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6A86-3C29-411A-92AB-27617AA6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6E93-9BD5-444E-9AF2-D2E9078A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1A71-8DC8-4EA8-A16B-4A3A1EF2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59EB-5F92-4B91-B7C9-27A7067F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7E1F-AA8B-4720-ABE3-B909C2D6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18E0-0800-402A-BA34-49084D44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F71E-4667-4BE5-8FED-9BD0BF3C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90FF-5A70-4E00-9273-73D0FD8C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AE97-E4FE-4CC1-93BA-6BAD90AE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1E06-D9CE-4464-86BE-175D0E52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7C53-C371-4FFA-A839-C3BBA06D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321D-C458-4018-A3EF-DE7C859A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6030-09AA-4443-801B-FE79C9E7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08CD-3F19-4E31-B0FC-9225039D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A0F4-8907-499D-9C9D-9B7A2EDA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D822-3026-45A4-BA73-5880E553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8322-A0BA-4771-ACCC-ADC471A9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9B72-1E76-4E78-BE9B-D29A6E48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EA5C-5F5E-411D-BFCD-535633F4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4B1D-2F14-4EB7-A06E-34ABA983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2E43-858A-45BB-AAFB-E37E9840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4028-5B4B-48DC-A89D-CA360C7B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9133-E480-4908-A9E2-8E5EB428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C649-B6D0-4A24-9808-D7F06E8C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E182-B559-4104-9DFD-F8E9D9B0B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1D53-E574-4361-8128-1942D33C8981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.jpe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08" name="Picture 27" descr="Рисунок4"/>
          <p:cNvPicPr/>
          <p:nvPr/>
        </p:nvPicPr>
        <p:blipFill>
          <a:blip r:embed="rId1"/>
          <a:stretch/>
        </p:blipFill>
        <p:spPr>
          <a:xfrm>
            <a:off x="611280" y="1197000"/>
            <a:ext cx="4681440" cy="21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2"/>
          <a:stretch/>
        </p:blipFill>
        <p:spPr>
          <a:xfrm>
            <a:off x="5651640" y="907920"/>
            <a:ext cx="2863800" cy="47530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324000" y="3716280"/>
            <a:ext cx="4968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VI 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 I 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 V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IX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 XX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III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684360" y="4869000"/>
            <a:ext cx="395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1, 5, 8, 9, 3, 2, 74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900000" y="260280"/>
            <a:ext cx="727416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bfbfa7"/>
                    </a:gs>
                  </a:gsLst>
                  <a:lin ang="2700000"/>
                </a:gradFill>
                <a:latin typeface="Monotype Corsiva"/>
              </a:rPr>
              <a:t>В Древнем Вавилоне...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bfbfa7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56" name="Picture 6" descr="05571a9a0978"/>
          <p:cNvPicPr/>
          <p:nvPr/>
        </p:nvPicPr>
        <p:blipFill>
          <a:blip r:embed="rId2"/>
          <a:stretch/>
        </p:blipFill>
        <p:spPr>
          <a:xfrm>
            <a:off x="1547640" y="2133720"/>
            <a:ext cx="5545440" cy="31464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2411280" y="54450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Карта Древнего Вавилона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58" name="Picture 9" descr="9c6c8b55766a"/>
          <p:cNvPicPr/>
          <p:nvPr/>
        </p:nvPicPr>
        <p:blipFill>
          <a:blip r:embed="rId3"/>
          <a:stretch/>
        </p:blipFill>
        <p:spPr>
          <a:xfrm>
            <a:off x="971640" y="1700280"/>
            <a:ext cx="7056360" cy="467208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1"/>
          <p:cNvSpPr txBox="1"/>
          <p:nvPr/>
        </p:nvSpPr>
        <p:spPr>
          <a:xfrm>
            <a:off x="971640" y="3141720"/>
            <a:ext cx="6985080" cy="28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500 лет до н.э.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0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1600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900000" y="260280"/>
            <a:ext cx="727416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bfbfa7"/>
                    </a:gs>
                  </a:gsLst>
                  <a:lin ang="2700000"/>
                </a:gradFill>
                <a:latin typeface="Monotype Corsiva"/>
              </a:rPr>
              <a:t>В Древнем Вавилоне...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bfbfa7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2"/>
          <a:stretch/>
        </p:blipFill>
        <p:spPr>
          <a:xfrm>
            <a:off x="6372360" y="2133720"/>
            <a:ext cx="28872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6804000" y="2133720"/>
            <a:ext cx="289080" cy="96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4"/>
          <a:stretch/>
        </p:blipFill>
        <p:spPr>
          <a:xfrm>
            <a:off x="4211640" y="2133720"/>
            <a:ext cx="289080" cy="961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5"/>
          <a:stretch/>
        </p:blipFill>
        <p:spPr>
          <a:xfrm>
            <a:off x="395280" y="2133720"/>
            <a:ext cx="2863800" cy="4535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2"/>
          <p:cNvSpPr/>
          <p:nvPr/>
        </p:nvSpPr>
        <p:spPr>
          <a:xfrm>
            <a:off x="4859280" y="2349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1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7308720" y="2276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2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6"/>
          <a:stretch/>
        </p:blipFill>
        <p:spPr>
          <a:xfrm>
            <a:off x="4067280" y="3213000"/>
            <a:ext cx="433440" cy="1152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6"/>
          <p:cNvSpPr/>
          <p:nvPr/>
        </p:nvSpPr>
        <p:spPr>
          <a:xfrm>
            <a:off x="4788000" y="3645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10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71" name="Picture 17" descr=""/>
          <p:cNvPicPr/>
          <p:nvPr/>
        </p:nvPicPr>
        <p:blipFill>
          <a:blip r:embed="rId7"/>
          <a:stretch/>
        </p:blipFill>
        <p:spPr>
          <a:xfrm>
            <a:off x="3995640" y="4508640"/>
            <a:ext cx="627120" cy="2089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8"/>
          <p:cNvSpPr/>
          <p:nvPr/>
        </p:nvSpPr>
        <p:spPr>
          <a:xfrm>
            <a:off x="4788000" y="53737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60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73" name="Picture 19" descr=""/>
          <p:cNvPicPr/>
          <p:nvPr/>
        </p:nvPicPr>
        <p:blipFill>
          <a:blip r:embed="rId8"/>
          <a:stretch/>
        </p:blipFill>
        <p:spPr>
          <a:xfrm>
            <a:off x="6443640" y="3933720"/>
            <a:ext cx="530280" cy="1320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1"/>
          <p:cNvSpPr/>
          <p:nvPr/>
        </p:nvSpPr>
        <p:spPr>
          <a:xfrm>
            <a:off x="7380360" y="407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0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77" name="Picture 5" descr="Изображение 049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9280" y="3068640"/>
            <a:ext cx="3292560" cy="360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Изображение 05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564000" y="3068640"/>
            <a:ext cx="5329080" cy="358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Изображение 144"/>
          <p:cNvPicPr/>
          <p:nvPr/>
        </p:nvPicPr>
        <p:blipFill>
          <a:blip r:embed="rId3"/>
          <a:srcRect l="0" t="0" r="1566" b="10283"/>
          <a:stretch/>
        </p:blipFill>
        <p:spPr>
          <a:xfrm>
            <a:off x="1258920" y="476280"/>
            <a:ext cx="6335640" cy="222264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5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2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468360" y="189000"/>
            <a:ext cx="820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В Древнем Риме..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83" name="Picture 6" descr="Изображение 048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042920" y="2276640"/>
            <a:ext cx="6985080" cy="43322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5"/>
          <p:cNvSpPr txBox="1"/>
          <p:nvPr/>
        </p:nvSpPr>
        <p:spPr>
          <a:xfrm>
            <a:off x="250920" y="3213000"/>
            <a:ext cx="8642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ло 500 лет до н.э.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684360" y="620640"/>
            <a:ext cx="7920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88" name="Picture 2" descr="C:\Users\Таня\Pictures\DSC_7465.jpg"/>
          <p:cNvPicPr/>
          <p:nvPr/>
        </p:nvPicPr>
        <p:blipFill>
          <a:blip r:embed="rId1"/>
          <a:stretch/>
        </p:blipFill>
        <p:spPr>
          <a:xfrm>
            <a:off x="539640" y="836640"/>
            <a:ext cx="3816360" cy="5130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4643280" y="907920"/>
            <a:ext cx="38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Единица - I </a:t>
            </a:r>
            <a:r>
              <a:rPr b="1" lang="ru-RU" sz="2400" spc="-1" strike="noStrike">
                <a:solidFill>
                  <a:srgbClr val="4217fb"/>
                </a:solidFill>
                <a:latin typeface="Calibri"/>
              </a:rPr>
              <a:t>- это отображение пальца. 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Пятерка - V </a:t>
            </a:r>
            <a:r>
              <a:rPr b="1" lang="ru-RU" sz="2400" spc="-1" strike="noStrike">
                <a:solidFill>
                  <a:srgbClr val="4217fb"/>
                </a:solidFill>
                <a:latin typeface="Calibri"/>
              </a:rPr>
              <a:t>- это отображение ладони с сомкнутыми вместе четырьмя пальцами и оттопыренным большим пальцем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Десятка - Х</a:t>
            </a:r>
            <a:r>
              <a:rPr b="1" lang="ru-RU" sz="2400" spc="-1" strike="noStrike">
                <a:solidFill>
                  <a:srgbClr val="4217fb"/>
                </a:solidFill>
                <a:latin typeface="Calibri"/>
              </a:rPr>
              <a:t> - это соединенные основаниями две ладони, обозначающие две пятерки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468360" y="1052640"/>
            <a:ext cx="8064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b2500"/>
                </a:solidFill>
                <a:latin typeface="Garamond"/>
              </a:rPr>
              <a:t>І, ІІ, ІІІ, ІV, </a:t>
            </a:r>
            <a:endParaRPr b="1" lang="en-US" sz="1800" spc="1" strike="noStrike">
              <a:ln w="0">
                <a:noFill/>
              </a:ln>
              <a:solidFill>
                <a:srgbClr val="4b25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b2500"/>
                </a:solidFill>
                <a:latin typeface="Garamond"/>
              </a:rPr>
              <a:t>V, VІ, VІІ, VІІІ,</a:t>
            </a:r>
            <a:endParaRPr b="1" lang="en-US" sz="1800" spc="1" strike="noStrike">
              <a:ln w="0">
                <a:noFill/>
              </a:ln>
              <a:solidFill>
                <a:srgbClr val="4b25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b2500"/>
                </a:solidFill>
                <a:latin typeface="Garamond"/>
              </a:rPr>
              <a:t>ІΧ, Χ</a:t>
            </a:r>
            <a:endParaRPr b="1" lang="en-US" sz="1800" spc="1" strike="noStrike">
              <a:ln w="0">
                <a:noFill/>
              </a:ln>
              <a:solidFill>
                <a:srgbClr val="4b2500"/>
              </a:solidFill>
              <a:latin typeface="Garamond"/>
              <a:ea typeface="Garamond"/>
            </a:endParaRPr>
          </a:p>
        </p:txBody>
      </p:sp>
      <p:sp>
        <p:nvSpPr>
          <p:cNvPr id="193" name="WordArt 8"/>
          <p:cNvSpPr txBox="1"/>
          <p:nvPr/>
        </p:nvSpPr>
        <p:spPr>
          <a:xfrm>
            <a:off x="2484360" y="4365720"/>
            <a:ext cx="100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9"/>
          <p:cNvSpPr txBox="1"/>
          <p:nvPr/>
        </p:nvSpPr>
        <p:spPr>
          <a:xfrm>
            <a:off x="2411280" y="2492280"/>
            <a:ext cx="107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5" name="WordArt 10"/>
          <p:cNvSpPr txBox="1"/>
          <p:nvPr/>
        </p:nvSpPr>
        <p:spPr>
          <a:xfrm>
            <a:off x="4788000" y="404640"/>
            <a:ext cx="216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6" name="WordArt 11"/>
          <p:cNvSpPr txBox="1"/>
          <p:nvPr/>
        </p:nvSpPr>
        <p:spPr>
          <a:xfrm>
            <a:off x="4716360" y="4365720"/>
            <a:ext cx="20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7" name="WordArt 12"/>
          <p:cNvSpPr txBox="1"/>
          <p:nvPr/>
        </p:nvSpPr>
        <p:spPr>
          <a:xfrm>
            <a:off x="4788000" y="2492280"/>
            <a:ext cx="172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8" name="Прямоугольник 8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5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0" y="476280"/>
            <a:ext cx="9036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I,IX,D</a:t>
            </a:r>
            <a:r>
              <a:rPr b="1" lang="ru-RU" sz="12000" spc="-1" strike="noStrike">
                <a:solidFill>
                  <a:srgbClr val="4b2500"/>
                </a:solidFill>
                <a:latin typeface="Garamond"/>
              </a:rPr>
              <a:t>,Μ</a:t>
            </a: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,VI,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L</a:t>
            </a:r>
            <a:r>
              <a:rPr b="1" lang="ru-RU" sz="12000" spc="-1" strike="noStrike">
                <a:solidFill>
                  <a:srgbClr val="4b2500"/>
                </a:solidFill>
                <a:latin typeface="Garamond"/>
              </a:rPr>
              <a:t>,</a:t>
            </a: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V,C,II</a:t>
            </a:r>
            <a:r>
              <a:rPr b="1" lang="ru-RU" sz="12000" spc="-1" strike="noStrike">
                <a:solidFill>
                  <a:srgbClr val="4b2500"/>
                </a:solidFill>
                <a:latin typeface="Garamond"/>
              </a:rPr>
              <a:t>,</a:t>
            </a: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III,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VIII,X,XII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6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217080" cy="69292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3760" y="3024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I-1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V-5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X-10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7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3024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5" name="WordArt 3"/>
          <p:cNvSpPr txBox="1"/>
          <p:nvPr/>
        </p:nvSpPr>
        <p:spPr>
          <a:xfrm>
            <a:off x="2411280" y="620640"/>
            <a:ext cx="5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2340000" y="335772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340000" y="198900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4788000" y="404640"/>
            <a:ext cx="187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5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09" name="WordArt 7"/>
          <p:cNvSpPr txBox="1"/>
          <p:nvPr/>
        </p:nvSpPr>
        <p:spPr>
          <a:xfrm>
            <a:off x="4788000" y="3357720"/>
            <a:ext cx="194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10" name="WordArt 8"/>
          <p:cNvSpPr txBox="1"/>
          <p:nvPr/>
        </p:nvSpPr>
        <p:spPr>
          <a:xfrm>
            <a:off x="4788000" y="1916280"/>
            <a:ext cx="194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WordArt 9"/>
          <p:cNvSpPr txBox="1"/>
          <p:nvPr/>
        </p:nvSpPr>
        <p:spPr>
          <a:xfrm>
            <a:off x="2340000" y="472428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12" name="WordArt 10"/>
          <p:cNvSpPr txBox="1"/>
          <p:nvPr/>
        </p:nvSpPr>
        <p:spPr>
          <a:xfrm>
            <a:off x="4716360" y="4653000"/>
            <a:ext cx="23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1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213" name="Прямоугольник 10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8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108000" y="260280"/>
            <a:ext cx="885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    </a:t>
            </a:r>
            <a:r>
              <a:rPr b="1" lang="en-US" sz="5400" spc="-1" strike="noStrike">
                <a:solidFill>
                  <a:srgbClr val="4b2500"/>
                </a:solidFill>
                <a:latin typeface="Garamond"/>
              </a:rPr>
              <a:t>-</a:t>
            </a: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     I      И еще останется  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5    -     V     ВСЕМ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0   -    X      ХВАТИТ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50   -    L      ЛИМОНЫ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00   -  C      СОЧНЫЕ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500   -  D      ДАРИМ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000 -  M      МЫ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19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755640" y="476280"/>
            <a:ext cx="7488360" cy="30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4b2500"/>
                    </a:gs>
                    <a:gs pos="100000">
                      <a:srgbClr val="00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4b2500"/>
                  </a:gs>
                  <a:gs pos="100000">
                    <a:srgbClr val="00ff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4b2500"/>
                    </a:gs>
                    <a:gs pos="100000">
                      <a:srgbClr val="00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4b2500"/>
                  </a:gs>
                  <a:gs pos="100000">
                    <a:srgbClr val="00ff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127160" y="189000"/>
            <a:ext cx="691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b85b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Гиссен</a:t>
            </a:r>
            <a:endParaRPr b="0" lang="en-US" sz="1800" spc="1" strike="noStrike">
              <a:ln w="0">
                <a:noFill/>
              </a:ln>
              <a:solidFill>
                <a:srgbClr val="b85b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b85b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b85b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ермания)</a:t>
            </a:r>
            <a:endParaRPr b="0" lang="en-US" sz="1800" spc="1" strike="noStrike">
              <a:ln w="0">
                <a:noFill/>
              </a:ln>
              <a:solidFill>
                <a:srgbClr val="b85b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43120" y="3497400"/>
            <a:ext cx="7313400" cy="3103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900000" y="765000"/>
            <a:ext cx="1363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52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544680" y="1996920"/>
            <a:ext cx="171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5</a:t>
            </a: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55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544680" y="3206880"/>
            <a:ext cx="171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147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116000" y="4581360"/>
            <a:ext cx="17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2700360" y="765000"/>
            <a:ext cx="17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=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2684520" y="1996920"/>
            <a:ext cx="172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=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700360" y="3206880"/>
            <a:ext cx="17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=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2700360" y="4581360"/>
            <a:ext cx="17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=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5435640" y="768240"/>
            <a:ext cx="18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L.II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4572000" y="3274920"/>
            <a:ext cx="352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C.XL.VII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4967280" y="2166840"/>
            <a:ext cx="27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D.L.V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5580000" y="4581360"/>
            <a:ext cx="273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VI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8" name="Прямоугольник 13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0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25560" y="549360"/>
            <a:ext cx="20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</a:rPr>
              <a:t>26+18=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-90360" y="1473120"/>
            <a:ext cx="276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</a:rPr>
              <a:t>157 – 92 =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1" name="Прямоугольник 3"/>
          <p:cNvSpPr/>
          <p:nvPr/>
        </p:nvSpPr>
        <p:spPr>
          <a:xfrm>
            <a:off x="0" y="225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</a:rPr>
              <a:t>548+137 =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3698640" y="617400"/>
            <a:ext cx="50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XX.VI +X.VIII =XL.IV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3660840" y="1473120"/>
            <a:ext cx="46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Garamond"/>
              </a:rPr>
              <a:t>C.L.VII – XC.II = LX.V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4" name="Прямоугольник 6"/>
          <p:cNvSpPr/>
          <p:nvPr/>
        </p:nvSpPr>
        <p:spPr>
          <a:xfrm>
            <a:off x="503280" y="2997360"/>
            <a:ext cx="68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D.XL.VIII. + C.XXX.VII = DC.LXXX.V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1819440" y="585720"/>
            <a:ext cx="37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2500"/>
                </a:solidFill>
                <a:latin typeface="Garamond"/>
              </a:rPr>
              <a:t>44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2365920" y="1407960"/>
            <a:ext cx="80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</a:rPr>
              <a:t>65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Прямоугольник 9"/>
          <p:cNvSpPr/>
          <p:nvPr/>
        </p:nvSpPr>
        <p:spPr>
          <a:xfrm>
            <a:off x="2566800" y="2320920"/>
            <a:ext cx="11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</a:rPr>
              <a:t>685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Прямоугольник 10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1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684360" y="404640"/>
            <a:ext cx="799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25                          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DCC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LXX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VII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184                        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C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LXXX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IV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50                          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XC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IX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99                          XX.V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2500"/>
                </a:solidFill>
                <a:latin typeface="Garamond"/>
              </a:rPr>
              <a:t>777                        L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0" name="Прямая соединительная линия 3"/>
          <p:cNvSpPr/>
          <p:nvPr/>
        </p:nvSpPr>
        <p:spPr>
          <a:xfrm>
            <a:off x="1258920" y="692280"/>
            <a:ext cx="3744720" cy="2232000"/>
          </a:xfrm>
          <a:prstGeom prst="line">
            <a:avLst/>
          </a:prstGeom>
          <a:ln w="38160">
            <a:solidFill>
              <a:srgbClr val="3f1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Прямая соединительная линия 6"/>
          <p:cNvSpPr/>
          <p:nvPr/>
        </p:nvSpPr>
        <p:spPr>
          <a:xfrm flipV="1">
            <a:off x="1258920" y="1557360"/>
            <a:ext cx="3744720" cy="71280"/>
          </a:xfrm>
          <a:prstGeom prst="line">
            <a:avLst/>
          </a:prstGeom>
          <a:ln w="38160">
            <a:solidFill>
              <a:srgbClr val="3f1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Прямая соединительная линия 8"/>
          <p:cNvSpPr/>
          <p:nvPr/>
        </p:nvSpPr>
        <p:spPr>
          <a:xfrm>
            <a:off x="1258920" y="2143080"/>
            <a:ext cx="3744720" cy="1357200"/>
          </a:xfrm>
          <a:prstGeom prst="line">
            <a:avLst/>
          </a:prstGeom>
          <a:ln w="38160">
            <a:solidFill>
              <a:srgbClr val="3f1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3" name="Прямая соединительная линия 10"/>
          <p:cNvSpPr/>
          <p:nvPr/>
        </p:nvSpPr>
        <p:spPr>
          <a:xfrm flipV="1">
            <a:off x="1258920" y="2143080"/>
            <a:ext cx="3889440" cy="781200"/>
          </a:xfrm>
          <a:prstGeom prst="line">
            <a:avLst/>
          </a:prstGeom>
          <a:ln w="38160">
            <a:solidFill>
              <a:srgbClr val="3f1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4" name="Прямая соединительная линия 12"/>
          <p:cNvSpPr/>
          <p:nvPr/>
        </p:nvSpPr>
        <p:spPr>
          <a:xfrm flipV="1">
            <a:off x="1476360" y="692280"/>
            <a:ext cx="3527280" cy="2808000"/>
          </a:xfrm>
          <a:prstGeom prst="line">
            <a:avLst/>
          </a:prstGeom>
          <a:ln w="38160">
            <a:solidFill>
              <a:srgbClr val="3f1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2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17fb"/>
                </a:solidFill>
                <a:latin typeface="Garamond"/>
              </a:rPr>
              <a:t>Из спичек сложили   неверное равенство. Переложите в   равенстве по одной спичке так, чтобы равенство стало верным.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grpSp>
        <p:nvGrpSpPr>
          <p:cNvPr id="247" name="Группа 105"/>
          <p:cNvGrpSpPr/>
          <p:nvPr/>
        </p:nvGrpSpPr>
        <p:grpSpPr>
          <a:xfrm>
            <a:off x="6443640" y="3645000"/>
            <a:ext cx="288720" cy="1368360"/>
            <a:chOff x="6443640" y="3645000"/>
            <a:chExt cx="288720" cy="1368360"/>
          </a:xfrm>
        </p:grpSpPr>
        <p:grpSp>
          <p:nvGrpSpPr>
            <p:cNvPr id="248" name="Группа 31"/>
            <p:cNvGrpSpPr/>
            <p:nvPr/>
          </p:nvGrpSpPr>
          <p:grpSpPr>
            <a:xfrm>
              <a:off x="6660360" y="3645000"/>
              <a:ext cx="72000" cy="1368360"/>
              <a:chOff x="6660360" y="3645000"/>
              <a:chExt cx="72000" cy="1368360"/>
            </a:xfrm>
          </p:grpSpPr>
          <p:sp>
            <p:nvSpPr>
              <p:cNvPr id="249" name="Прямоугольник 32"/>
              <p:cNvSpPr/>
              <p:nvPr/>
            </p:nvSpPr>
            <p:spPr>
              <a:xfrm rot="5400000">
                <a:off x="6050160" y="4331160"/>
                <a:ext cx="12924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50" name="Овал 33"/>
              <p:cNvSpPr/>
              <p:nvPr/>
            </p:nvSpPr>
            <p:spPr>
              <a:xfrm>
                <a:off x="6660360" y="3645000"/>
                <a:ext cx="72000" cy="1522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51" name="Группа 34"/>
            <p:cNvGrpSpPr/>
            <p:nvPr/>
          </p:nvGrpSpPr>
          <p:grpSpPr>
            <a:xfrm>
              <a:off x="6443640" y="3645000"/>
              <a:ext cx="72000" cy="1368360"/>
              <a:chOff x="6443640" y="3645000"/>
              <a:chExt cx="72000" cy="1368360"/>
            </a:xfrm>
          </p:grpSpPr>
          <p:sp>
            <p:nvSpPr>
              <p:cNvPr id="252" name="Прямоугольник 35"/>
              <p:cNvSpPr/>
              <p:nvPr/>
            </p:nvSpPr>
            <p:spPr>
              <a:xfrm rot="5400000">
                <a:off x="5833440" y="4331160"/>
                <a:ext cx="12924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53" name="Овал 36"/>
              <p:cNvSpPr/>
              <p:nvPr/>
            </p:nvSpPr>
            <p:spPr>
              <a:xfrm>
                <a:off x="6443640" y="3645000"/>
                <a:ext cx="72000" cy="1522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254" name="Группа 61"/>
          <p:cNvGrpSpPr/>
          <p:nvPr/>
        </p:nvGrpSpPr>
        <p:grpSpPr>
          <a:xfrm>
            <a:off x="1096200" y="3645000"/>
            <a:ext cx="892800" cy="1412640"/>
            <a:chOff x="1096200" y="3645000"/>
            <a:chExt cx="892800" cy="1412640"/>
          </a:xfrm>
        </p:grpSpPr>
        <p:grpSp>
          <p:nvGrpSpPr>
            <p:cNvPr id="255" name="Группа 18"/>
            <p:cNvGrpSpPr/>
            <p:nvPr/>
          </p:nvGrpSpPr>
          <p:grpSpPr>
            <a:xfrm>
              <a:off x="1917000" y="3716640"/>
              <a:ext cx="72000" cy="1295280"/>
              <a:chOff x="1917000" y="3716640"/>
              <a:chExt cx="72000" cy="1295280"/>
            </a:xfrm>
          </p:grpSpPr>
          <p:sp>
            <p:nvSpPr>
              <p:cNvPr id="256" name="Прямоугольник 17"/>
              <p:cNvSpPr/>
              <p:nvPr/>
            </p:nvSpPr>
            <p:spPr>
              <a:xfrm rot="5400000">
                <a:off x="1340640" y="4363920"/>
                <a:ext cx="12240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57" name="Овал 16"/>
              <p:cNvSpPr/>
              <p:nvPr/>
            </p:nvSpPr>
            <p:spPr>
              <a:xfrm>
                <a:off x="1917000" y="3716640"/>
                <a:ext cx="72000" cy="14436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258" name="Прямоугольник 21"/>
            <p:cNvSpPr/>
            <p:nvPr/>
          </p:nvSpPr>
          <p:spPr>
            <a:xfrm rot="5400000">
              <a:off x="1126080" y="4364640"/>
              <a:ext cx="1222200" cy="71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grpSp>
          <p:nvGrpSpPr>
            <p:cNvPr id="259" name="Группа 55"/>
            <p:cNvGrpSpPr/>
            <p:nvPr/>
          </p:nvGrpSpPr>
          <p:grpSpPr>
            <a:xfrm>
              <a:off x="1096200" y="3647520"/>
              <a:ext cx="455760" cy="1410120"/>
              <a:chOff x="1096200" y="3647520"/>
              <a:chExt cx="455760" cy="1410120"/>
            </a:xfrm>
          </p:grpSpPr>
          <p:sp>
            <p:nvSpPr>
              <p:cNvPr id="260" name="Прямоугольник 3"/>
              <p:cNvSpPr/>
              <p:nvPr/>
            </p:nvSpPr>
            <p:spPr>
              <a:xfrm rot="6418800">
                <a:off x="725760" y="4420080"/>
                <a:ext cx="1224360" cy="7308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61" name="Прямоугольник 39"/>
              <p:cNvSpPr/>
              <p:nvPr/>
            </p:nvSpPr>
            <p:spPr>
              <a:xfrm rot="4536600">
                <a:off x="674280" y="4387320"/>
                <a:ext cx="1290960" cy="7164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62" name="Овал 53"/>
              <p:cNvSpPr/>
              <p:nvPr/>
            </p:nvSpPr>
            <p:spPr>
              <a:xfrm rot="15697200">
                <a:off x="1032120" y="3737880"/>
                <a:ext cx="280800" cy="11304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263" name="Овал 54"/>
            <p:cNvSpPr/>
            <p:nvPr/>
          </p:nvSpPr>
          <p:spPr>
            <a:xfrm rot="16200000">
              <a:off x="1596960" y="3749760"/>
              <a:ext cx="280800" cy="712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264" name="Овал 51"/>
            <p:cNvSpPr/>
            <p:nvPr/>
          </p:nvSpPr>
          <p:spPr>
            <a:xfrm rot="17527800">
              <a:off x="1377720" y="3811680"/>
              <a:ext cx="280800" cy="1126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65" name="Группа 81"/>
          <p:cNvGrpSpPr/>
          <p:nvPr/>
        </p:nvGrpSpPr>
        <p:grpSpPr>
          <a:xfrm>
            <a:off x="3708000" y="3716280"/>
            <a:ext cx="843480" cy="1376280"/>
            <a:chOff x="3708000" y="3716280"/>
            <a:chExt cx="843480" cy="1376280"/>
          </a:xfrm>
        </p:grpSpPr>
        <p:grpSp>
          <p:nvGrpSpPr>
            <p:cNvPr id="266" name="Группа 73"/>
            <p:cNvGrpSpPr/>
            <p:nvPr/>
          </p:nvGrpSpPr>
          <p:grpSpPr>
            <a:xfrm>
              <a:off x="3708000" y="3716280"/>
              <a:ext cx="810720" cy="1376280"/>
              <a:chOff x="3708000" y="3716280"/>
              <a:chExt cx="810720" cy="1376280"/>
            </a:xfrm>
          </p:grpSpPr>
          <p:sp>
            <p:nvSpPr>
              <p:cNvPr id="267" name="Прямоугольник 11"/>
              <p:cNvSpPr/>
              <p:nvPr/>
            </p:nvSpPr>
            <p:spPr>
              <a:xfrm rot="6758400">
                <a:off x="3579840" y="4475880"/>
                <a:ext cx="1227240" cy="7272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68" name="Прямоугольник 6"/>
              <p:cNvSpPr/>
              <p:nvPr/>
            </p:nvSpPr>
            <p:spPr>
              <a:xfrm rot="3865200">
                <a:off x="3607920" y="4465440"/>
                <a:ext cx="1227240" cy="7128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grpSp>
            <p:nvGrpSpPr>
              <p:cNvPr id="269" name="Группа 27"/>
              <p:cNvGrpSpPr/>
              <p:nvPr/>
            </p:nvGrpSpPr>
            <p:grpSpPr>
              <a:xfrm>
                <a:off x="3708000" y="3716280"/>
                <a:ext cx="72000" cy="1369440"/>
                <a:chOff x="3708000" y="3716280"/>
                <a:chExt cx="72000" cy="1369440"/>
              </a:xfrm>
            </p:grpSpPr>
            <p:sp>
              <p:nvSpPr>
                <p:cNvPr id="270" name="Прямоугольник 28"/>
                <p:cNvSpPr/>
                <p:nvPr/>
              </p:nvSpPr>
              <p:spPr>
                <a:xfrm rot="5400000">
                  <a:off x="3097080" y="4403160"/>
                  <a:ext cx="1293480" cy="7164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71" name="Овал 29"/>
                <p:cNvSpPr/>
                <p:nvPr/>
              </p:nvSpPr>
              <p:spPr>
                <a:xfrm>
                  <a:off x="3708360" y="3716280"/>
                  <a:ext cx="71640" cy="15228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2" name="Овал 52"/>
              <p:cNvSpPr/>
              <p:nvPr/>
            </p:nvSpPr>
            <p:spPr>
              <a:xfrm rot="14389200">
                <a:off x="3758400" y="3809880"/>
                <a:ext cx="280800" cy="11232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273" name="Овал 50"/>
            <p:cNvSpPr/>
            <p:nvPr/>
          </p:nvSpPr>
          <p:spPr>
            <a:xfrm rot="17527800">
              <a:off x="4304520" y="3860640"/>
              <a:ext cx="282600" cy="1126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74" name="Группа 92"/>
          <p:cNvGrpSpPr/>
          <p:nvPr/>
        </p:nvGrpSpPr>
        <p:grpSpPr>
          <a:xfrm>
            <a:off x="4723920" y="4444920"/>
            <a:ext cx="1369080" cy="288720"/>
            <a:chOff x="4723920" y="4444920"/>
            <a:chExt cx="1369080" cy="288720"/>
          </a:xfrm>
        </p:grpSpPr>
        <p:grpSp>
          <p:nvGrpSpPr>
            <p:cNvPr id="275" name="Группа 44"/>
            <p:cNvGrpSpPr/>
            <p:nvPr/>
          </p:nvGrpSpPr>
          <p:grpSpPr>
            <a:xfrm>
              <a:off x="4723920" y="4444920"/>
              <a:ext cx="1369080" cy="72000"/>
              <a:chOff x="4723920" y="4444920"/>
              <a:chExt cx="1369080" cy="72000"/>
            </a:xfrm>
          </p:grpSpPr>
          <p:sp>
            <p:nvSpPr>
              <p:cNvPr id="276" name="Прямоугольник 97"/>
              <p:cNvSpPr/>
              <p:nvPr/>
            </p:nvSpPr>
            <p:spPr>
              <a:xfrm rot="10800000">
                <a:off x="4723920" y="4444920"/>
                <a:ext cx="122436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77" name="Овал 98"/>
              <p:cNvSpPr/>
              <p:nvPr/>
            </p:nvSpPr>
            <p:spPr>
              <a:xfrm flipH="1" flipV="1">
                <a:off x="5877000" y="4444920"/>
                <a:ext cx="216000" cy="7200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78" name="Группа 47"/>
            <p:cNvGrpSpPr/>
            <p:nvPr/>
          </p:nvGrpSpPr>
          <p:grpSpPr>
            <a:xfrm>
              <a:off x="4723920" y="4661640"/>
              <a:ext cx="1369080" cy="72000"/>
              <a:chOff x="4723920" y="4661640"/>
              <a:chExt cx="1369080" cy="72000"/>
            </a:xfrm>
          </p:grpSpPr>
          <p:sp>
            <p:nvSpPr>
              <p:cNvPr id="279" name="Прямоугольник 95"/>
              <p:cNvSpPr/>
              <p:nvPr/>
            </p:nvSpPr>
            <p:spPr>
              <a:xfrm rot="10800000">
                <a:off x="4723920" y="4661640"/>
                <a:ext cx="122436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80" name="Овал 96"/>
              <p:cNvSpPr/>
              <p:nvPr/>
            </p:nvSpPr>
            <p:spPr>
              <a:xfrm flipH="1" flipV="1">
                <a:off x="5877000" y="4661640"/>
                <a:ext cx="216000" cy="7200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281" name="Группа 99"/>
          <p:cNvGrpSpPr/>
          <p:nvPr/>
        </p:nvGrpSpPr>
        <p:grpSpPr>
          <a:xfrm>
            <a:off x="6875640" y="3645000"/>
            <a:ext cx="72720" cy="1368360"/>
            <a:chOff x="6875640" y="3645000"/>
            <a:chExt cx="72720" cy="1368360"/>
          </a:xfrm>
        </p:grpSpPr>
        <p:sp>
          <p:nvSpPr>
            <p:cNvPr id="282" name="Прямоугольник 100"/>
            <p:cNvSpPr/>
            <p:nvPr/>
          </p:nvSpPr>
          <p:spPr>
            <a:xfrm rot="5400000">
              <a:off x="6300000" y="4365000"/>
              <a:ext cx="1224000" cy="72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283" name="Овал 101"/>
            <p:cNvSpPr/>
            <p:nvPr/>
          </p:nvSpPr>
          <p:spPr>
            <a:xfrm>
              <a:off x="6875640" y="3645000"/>
              <a:ext cx="72720" cy="21564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84" name="Группа 102"/>
          <p:cNvGrpSpPr/>
          <p:nvPr/>
        </p:nvGrpSpPr>
        <p:grpSpPr>
          <a:xfrm>
            <a:off x="2124000" y="4365720"/>
            <a:ext cx="1368000" cy="71280"/>
            <a:chOff x="2124000" y="4365720"/>
            <a:chExt cx="1368000" cy="71280"/>
          </a:xfrm>
        </p:grpSpPr>
        <p:sp>
          <p:nvSpPr>
            <p:cNvPr id="285" name="Прямоугольник 103"/>
            <p:cNvSpPr/>
            <p:nvPr/>
          </p:nvSpPr>
          <p:spPr>
            <a:xfrm rot="10800000">
              <a:off x="2124000" y="4365720"/>
              <a:ext cx="1224000" cy="71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286" name="Овал 104"/>
            <p:cNvSpPr/>
            <p:nvPr/>
          </p:nvSpPr>
          <p:spPr>
            <a:xfrm flipH="1" flipV="1">
              <a:off x="3276000" y="4365720"/>
              <a:ext cx="215640" cy="712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87" name="Группа 117"/>
          <p:cNvGrpSpPr/>
          <p:nvPr/>
        </p:nvGrpSpPr>
        <p:grpSpPr>
          <a:xfrm>
            <a:off x="1239120" y="1916280"/>
            <a:ext cx="5861880" cy="1520640"/>
            <a:chOff x="1239120" y="1916280"/>
            <a:chExt cx="5861880" cy="1520640"/>
          </a:xfrm>
        </p:grpSpPr>
        <p:grpSp>
          <p:nvGrpSpPr>
            <p:cNvPr id="288" name="Группа 23"/>
            <p:cNvGrpSpPr/>
            <p:nvPr/>
          </p:nvGrpSpPr>
          <p:grpSpPr>
            <a:xfrm>
              <a:off x="2987280" y="1916280"/>
              <a:ext cx="72000" cy="1296360"/>
              <a:chOff x="2987280" y="1916280"/>
              <a:chExt cx="72000" cy="1296360"/>
            </a:xfrm>
          </p:grpSpPr>
          <p:sp>
            <p:nvSpPr>
              <p:cNvPr id="289" name="Прямоугольник 24"/>
              <p:cNvSpPr/>
              <p:nvPr/>
            </p:nvSpPr>
            <p:spPr>
              <a:xfrm rot="5400000">
                <a:off x="2410560" y="2563920"/>
                <a:ext cx="122508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90" name="Овал 25"/>
              <p:cNvSpPr/>
              <p:nvPr/>
            </p:nvSpPr>
            <p:spPr>
              <a:xfrm>
                <a:off x="2987280" y="1916280"/>
                <a:ext cx="72000" cy="14436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91" name="Группа 43"/>
            <p:cNvGrpSpPr/>
            <p:nvPr/>
          </p:nvGrpSpPr>
          <p:grpSpPr>
            <a:xfrm>
              <a:off x="2338920" y="2492280"/>
              <a:ext cx="1368000" cy="72000"/>
              <a:chOff x="2338920" y="2492280"/>
              <a:chExt cx="1368000" cy="72000"/>
            </a:xfrm>
          </p:grpSpPr>
          <p:sp>
            <p:nvSpPr>
              <p:cNvPr id="292" name="Прямоугольник 9"/>
              <p:cNvSpPr/>
              <p:nvPr/>
            </p:nvSpPr>
            <p:spPr>
              <a:xfrm rot="10800000">
                <a:off x="2338920" y="2492280"/>
                <a:ext cx="12240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93" name="Овал 30"/>
              <p:cNvSpPr/>
              <p:nvPr/>
            </p:nvSpPr>
            <p:spPr>
              <a:xfrm flipH="1" flipV="1">
                <a:off x="3490920" y="2492280"/>
                <a:ext cx="215640" cy="7200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94" name="Группа 91"/>
            <p:cNvGrpSpPr/>
            <p:nvPr/>
          </p:nvGrpSpPr>
          <p:grpSpPr>
            <a:xfrm>
              <a:off x="5004360" y="2564280"/>
              <a:ext cx="1368000" cy="288000"/>
              <a:chOff x="5004360" y="2564280"/>
              <a:chExt cx="1368000" cy="288000"/>
            </a:xfrm>
          </p:grpSpPr>
          <p:grpSp>
            <p:nvGrpSpPr>
              <p:cNvPr id="295" name="Группа 44"/>
              <p:cNvGrpSpPr/>
              <p:nvPr/>
            </p:nvGrpSpPr>
            <p:grpSpPr>
              <a:xfrm>
                <a:off x="5004360" y="2564280"/>
                <a:ext cx="1368000" cy="72000"/>
                <a:chOff x="5004360" y="2564280"/>
                <a:chExt cx="1368000" cy="72000"/>
              </a:xfrm>
            </p:grpSpPr>
            <p:sp>
              <p:nvSpPr>
                <p:cNvPr id="296" name="Прямоугольник 45"/>
                <p:cNvSpPr/>
                <p:nvPr/>
              </p:nvSpPr>
              <p:spPr>
                <a:xfrm rot="10800000">
                  <a:off x="5004360" y="2564280"/>
                  <a:ext cx="12240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97" name="Овал 46"/>
                <p:cNvSpPr/>
                <p:nvPr/>
              </p:nvSpPr>
              <p:spPr>
                <a:xfrm flipH="1" flipV="1">
                  <a:off x="6156360" y="2564280"/>
                  <a:ext cx="215640" cy="7200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98" name="Группа 47"/>
              <p:cNvGrpSpPr/>
              <p:nvPr/>
            </p:nvGrpSpPr>
            <p:grpSpPr>
              <a:xfrm>
                <a:off x="5004360" y="2780280"/>
                <a:ext cx="1368000" cy="72000"/>
                <a:chOff x="5004360" y="2780280"/>
                <a:chExt cx="1368000" cy="72000"/>
              </a:xfrm>
            </p:grpSpPr>
            <p:sp>
              <p:nvSpPr>
                <p:cNvPr id="299" name="Прямоугольник 48"/>
                <p:cNvSpPr/>
                <p:nvPr/>
              </p:nvSpPr>
              <p:spPr>
                <a:xfrm rot="10800000">
                  <a:off x="5004360" y="2780280"/>
                  <a:ext cx="12240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00" name="Овал 49"/>
                <p:cNvSpPr/>
                <p:nvPr/>
              </p:nvSpPr>
              <p:spPr>
                <a:xfrm flipH="1" flipV="1">
                  <a:off x="6156360" y="2780280"/>
                  <a:ext cx="215640" cy="7200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</p:grpSp>
        <p:grpSp>
          <p:nvGrpSpPr>
            <p:cNvPr id="301" name="Группа 62"/>
            <p:cNvGrpSpPr/>
            <p:nvPr/>
          </p:nvGrpSpPr>
          <p:grpSpPr>
            <a:xfrm>
              <a:off x="1239120" y="1924560"/>
              <a:ext cx="892800" cy="1413720"/>
              <a:chOff x="1239120" y="1924560"/>
              <a:chExt cx="892800" cy="1413720"/>
            </a:xfrm>
          </p:grpSpPr>
          <p:grpSp>
            <p:nvGrpSpPr>
              <p:cNvPr id="302" name="Группа 18"/>
              <p:cNvGrpSpPr/>
              <p:nvPr/>
            </p:nvGrpSpPr>
            <p:grpSpPr>
              <a:xfrm>
                <a:off x="2059920" y="1996920"/>
                <a:ext cx="72000" cy="1296000"/>
                <a:chOff x="2059920" y="1996920"/>
                <a:chExt cx="72000" cy="1296000"/>
              </a:xfrm>
            </p:grpSpPr>
            <p:sp>
              <p:nvSpPr>
                <p:cNvPr id="303" name="Прямоугольник 71"/>
                <p:cNvSpPr/>
                <p:nvPr/>
              </p:nvSpPr>
              <p:spPr>
                <a:xfrm rot="5400000">
                  <a:off x="1483200" y="2644200"/>
                  <a:ext cx="122544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04" name="Овал 72"/>
                <p:cNvSpPr/>
                <p:nvPr/>
              </p:nvSpPr>
              <p:spPr>
                <a:xfrm>
                  <a:off x="2059920" y="1996920"/>
                  <a:ext cx="72000" cy="14256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05" name="Прямоугольник 64"/>
              <p:cNvSpPr/>
              <p:nvPr/>
            </p:nvSpPr>
            <p:spPr>
              <a:xfrm rot="5400000">
                <a:off x="1268280" y="2644920"/>
                <a:ext cx="1223640" cy="7128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grpSp>
            <p:nvGrpSpPr>
              <p:cNvPr id="306" name="Группа 55"/>
              <p:cNvGrpSpPr/>
              <p:nvPr/>
            </p:nvGrpSpPr>
            <p:grpSpPr>
              <a:xfrm>
                <a:off x="1239120" y="1927440"/>
                <a:ext cx="455760" cy="1410840"/>
                <a:chOff x="1239120" y="1927440"/>
                <a:chExt cx="455760" cy="1410840"/>
              </a:xfrm>
            </p:grpSpPr>
            <p:sp>
              <p:nvSpPr>
                <p:cNvPr id="307" name="Прямоугольник 68"/>
                <p:cNvSpPr/>
                <p:nvPr/>
              </p:nvSpPr>
              <p:spPr>
                <a:xfrm rot="6418800">
                  <a:off x="868320" y="2700360"/>
                  <a:ext cx="1225080" cy="7308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08" name="Прямоугольник 69"/>
                <p:cNvSpPr/>
                <p:nvPr/>
              </p:nvSpPr>
              <p:spPr>
                <a:xfrm rot="4536600">
                  <a:off x="816840" y="2667600"/>
                  <a:ext cx="1292040" cy="7164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09" name="Овал 70"/>
                <p:cNvSpPr/>
                <p:nvPr/>
              </p:nvSpPr>
              <p:spPr>
                <a:xfrm rot="15697200">
                  <a:off x="1175040" y="2017800"/>
                  <a:ext cx="280800" cy="11304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10" name="Овал 66"/>
              <p:cNvSpPr/>
              <p:nvPr/>
            </p:nvSpPr>
            <p:spPr>
              <a:xfrm rot="16200000">
                <a:off x="1739880" y="2029320"/>
                <a:ext cx="280800" cy="712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311" name="Овал 67"/>
              <p:cNvSpPr/>
              <p:nvPr/>
            </p:nvSpPr>
            <p:spPr>
              <a:xfrm rot="17527800">
                <a:off x="1519920" y="2091600"/>
                <a:ext cx="282240" cy="1126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312" name="Группа 82"/>
            <p:cNvGrpSpPr/>
            <p:nvPr/>
          </p:nvGrpSpPr>
          <p:grpSpPr>
            <a:xfrm>
              <a:off x="4076280" y="1996560"/>
              <a:ext cx="842760" cy="1375200"/>
              <a:chOff x="4076280" y="1996560"/>
              <a:chExt cx="842760" cy="1375200"/>
            </a:xfrm>
          </p:grpSpPr>
          <p:grpSp>
            <p:nvGrpSpPr>
              <p:cNvPr id="313" name="Группа 73"/>
              <p:cNvGrpSpPr/>
              <p:nvPr/>
            </p:nvGrpSpPr>
            <p:grpSpPr>
              <a:xfrm>
                <a:off x="4076280" y="1996560"/>
                <a:ext cx="809280" cy="1375200"/>
                <a:chOff x="4076280" y="1996560"/>
                <a:chExt cx="809280" cy="1375200"/>
              </a:xfrm>
            </p:grpSpPr>
            <p:sp>
              <p:nvSpPr>
                <p:cNvPr id="314" name="Прямоугольник 85"/>
                <p:cNvSpPr/>
                <p:nvPr/>
              </p:nvSpPr>
              <p:spPr>
                <a:xfrm rot="6758400">
                  <a:off x="3949560" y="2756520"/>
                  <a:ext cx="1225800" cy="7092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15" name="Прямоугольник 86"/>
                <p:cNvSpPr/>
                <p:nvPr/>
              </p:nvSpPr>
              <p:spPr>
                <a:xfrm rot="3865200">
                  <a:off x="3976560" y="2746080"/>
                  <a:ext cx="1225800" cy="6948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grpSp>
              <p:nvGrpSpPr>
                <p:cNvPr id="316" name="Группа 27"/>
                <p:cNvGrpSpPr/>
                <p:nvPr/>
              </p:nvGrpSpPr>
              <p:grpSpPr>
                <a:xfrm>
                  <a:off x="4076280" y="1996560"/>
                  <a:ext cx="69840" cy="1368720"/>
                  <a:chOff x="4076280" y="1996560"/>
                  <a:chExt cx="69840" cy="1368720"/>
                </a:xfrm>
              </p:grpSpPr>
              <p:sp>
                <p:nvSpPr>
                  <p:cNvPr id="317" name="Прямоугольник 89"/>
                  <p:cNvSpPr/>
                  <p:nvPr/>
                </p:nvSpPr>
                <p:spPr>
                  <a:xfrm rot="5400000">
                    <a:off x="3464640" y="2683800"/>
                    <a:ext cx="1292760" cy="69840"/>
                  </a:xfrm>
                  <a:prstGeom prst="rect">
                    <a:avLst/>
                  </a:prstGeom>
                  <a:solidFill>
                    <a:srgbClr val="ffffcc"/>
                  </a:solidFill>
                  <a:ln w="25560">
                    <a:solidFill>
                      <a:srgbClr val="bcbc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b25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18" name="Овал 90"/>
                  <p:cNvSpPr/>
                  <p:nvPr/>
                </p:nvSpPr>
                <p:spPr>
                  <a:xfrm>
                    <a:off x="4076280" y="1996560"/>
                    <a:ext cx="69840" cy="15228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25560">
                    <a:solidFill>
                      <a:srgbClr val="bcbc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b2500"/>
                      </a:solidFill>
                      <a:latin typeface="Garamond"/>
                    </a:endParaRPr>
                  </a:p>
                </p:txBody>
              </p:sp>
            </p:grpSp>
            <p:sp>
              <p:nvSpPr>
                <p:cNvPr id="319" name="Овал 88"/>
                <p:cNvSpPr/>
                <p:nvPr/>
              </p:nvSpPr>
              <p:spPr>
                <a:xfrm rot="14389200">
                  <a:off x="4122000" y="2091960"/>
                  <a:ext cx="280800" cy="10944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0" name="Овал 84"/>
              <p:cNvSpPr/>
              <p:nvPr/>
            </p:nvSpPr>
            <p:spPr>
              <a:xfrm rot="17527800">
                <a:off x="4672080" y="2142000"/>
                <a:ext cx="282600" cy="11232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321" name="Группа 106"/>
            <p:cNvGrpSpPr/>
            <p:nvPr/>
          </p:nvGrpSpPr>
          <p:grpSpPr>
            <a:xfrm>
              <a:off x="6813000" y="2068560"/>
              <a:ext cx="288000" cy="1368360"/>
              <a:chOff x="6813000" y="2068560"/>
              <a:chExt cx="288000" cy="1368360"/>
            </a:xfrm>
          </p:grpSpPr>
          <p:grpSp>
            <p:nvGrpSpPr>
              <p:cNvPr id="322" name="Группа 31"/>
              <p:cNvGrpSpPr/>
              <p:nvPr/>
            </p:nvGrpSpPr>
            <p:grpSpPr>
              <a:xfrm>
                <a:off x="7029000" y="2068560"/>
                <a:ext cx="72000" cy="1368360"/>
                <a:chOff x="7029000" y="2068560"/>
                <a:chExt cx="72000" cy="1368360"/>
              </a:xfrm>
            </p:grpSpPr>
            <p:sp>
              <p:nvSpPr>
                <p:cNvPr id="323" name="Прямоугольник 111"/>
                <p:cNvSpPr/>
                <p:nvPr/>
              </p:nvSpPr>
              <p:spPr>
                <a:xfrm rot="5400000">
                  <a:off x="6418800" y="2754720"/>
                  <a:ext cx="12924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24" name="Овал 112"/>
                <p:cNvSpPr/>
                <p:nvPr/>
              </p:nvSpPr>
              <p:spPr>
                <a:xfrm>
                  <a:off x="7029000" y="2068560"/>
                  <a:ext cx="72000" cy="15228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25" name="Группа 34"/>
              <p:cNvGrpSpPr/>
              <p:nvPr/>
            </p:nvGrpSpPr>
            <p:grpSpPr>
              <a:xfrm>
                <a:off x="6813000" y="2068560"/>
                <a:ext cx="72000" cy="1368360"/>
                <a:chOff x="6813000" y="2068560"/>
                <a:chExt cx="72000" cy="1368360"/>
              </a:xfrm>
            </p:grpSpPr>
            <p:sp>
              <p:nvSpPr>
                <p:cNvPr id="326" name="Прямоугольник 109"/>
                <p:cNvSpPr/>
                <p:nvPr/>
              </p:nvSpPr>
              <p:spPr>
                <a:xfrm rot="5400000">
                  <a:off x="6202800" y="2754720"/>
                  <a:ext cx="12924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327" name="Овал 110"/>
                <p:cNvSpPr/>
                <p:nvPr/>
              </p:nvSpPr>
              <p:spPr>
                <a:xfrm>
                  <a:off x="6813000" y="2068560"/>
                  <a:ext cx="72000" cy="15228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</p:grpSp>
      </p:grpSp>
      <p:grpSp>
        <p:nvGrpSpPr>
          <p:cNvPr id="328" name="Группа 114"/>
          <p:cNvGrpSpPr/>
          <p:nvPr/>
        </p:nvGrpSpPr>
        <p:grpSpPr>
          <a:xfrm>
            <a:off x="2771280" y="3716280"/>
            <a:ext cx="72000" cy="1297080"/>
            <a:chOff x="2771280" y="3716280"/>
            <a:chExt cx="72000" cy="1297080"/>
          </a:xfrm>
        </p:grpSpPr>
        <p:sp>
          <p:nvSpPr>
            <p:cNvPr id="329" name="Прямоугольник 115"/>
            <p:cNvSpPr/>
            <p:nvPr/>
          </p:nvSpPr>
          <p:spPr>
            <a:xfrm rot="5400000">
              <a:off x="2194200" y="4364640"/>
              <a:ext cx="1225800" cy="71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330" name="Овал 116"/>
            <p:cNvSpPr/>
            <p:nvPr/>
          </p:nvSpPr>
          <p:spPr>
            <a:xfrm>
              <a:off x="2771640" y="3716280"/>
              <a:ext cx="71640" cy="14436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331" name="Нижний колонтитул 119"/>
          <p:cNvSpPr/>
          <p:nvPr/>
        </p:nvSpPr>
        <p:spPr>
          <a:xfrm>
            <a:off x="1332000" y="649296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2" name="Прямоугольник 87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3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-8748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68360" y="404640"/>
            <a:ext cx="84247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Прочитайте и решите задачу: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Александр Сергеевич Пушкин родился в M. DCC</a:t>
            </a:r>
            <a:r>
              <a:rPr b="0" lang="en-US" sz="3600" spc="-1" strike="noStrike">
                <a:solidFill>
                  <a:srgbClr val="4b2500"/>
                </a:solidFill>
                <a:latin typeface="Arial"/>
              </a:rPr>
              <a:t>.XC.</a:t>
            </a: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4b25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 году, а умер в M</a:t>
            </a:r>
            <a:r>
              <a:rPr b="0" lang="en-US" sz="3600" spc="-1" strike="noStrike">
                <a:solidFill>
                  <a:srgbClr val="4b25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DCCC</a:t>
            </a:r>
            <a:r>
              <a:rPr b="0" lang="en-US" sz="3600" spc="-1" strike="noStrike">
                <a:solidFill>
                  <a:srgbClr val="4b25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XXX</a:t>
            </a:r>
            <a:r>
              <a:rPr b="0" lang="en-US" sz="3600" spc="-1" strike="noStrike">
                <a:solidFill>
                  <a:srgbClr val="4b25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VII году. Сколько лет прожил Пушкин?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4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7" name="WordArt 5"/>
          <p:cNvSpPr txBox="1"/>
          <p:nvPr/>
        </p:nvSpPr>
        <p:spPr>
          <a:xfrm>
            <a:off x="611280" y="333360"/>
            <a:ext cx="813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>
                    <a:alpha val="51000"/>
                  </a:srgbClr>
                </a:solidFill>
                <a:latin typeface="Arial"/>
              </a:rPr>
              <a:t>Исправь допущенные ошибки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>
                  <a:alpha val="51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>
                    <a:alpha val="51000"/>
                  </a:srgbClr>
                </a:solidFill>
                <a:latin typeface="Arial"/>
              </a:rPr>
              <a:t>переложив одну палочку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>
                  <a:alpha val="5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539640" y="1916280"/>
            <a:ext cx="4103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I + I = V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IX – I = 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X + III =XI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I – IV = I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5580000" y="1989000"/>
            <a:ext cx="3384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 + I = V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X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 – I = 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X + II =XI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</a:t>
            </a:r>
            <a:r>
              <a:rPr b="1" lang="ru-RU" sz="48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–</a:t>
            </a:r>
            <a:r>
              <a:rPr b="1" lang="ru-RU" sz="48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IV =I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0" name="Прямая соединительная линия 2"/>
          <p:cNvSpPr/>
          <p:nvPr/>
        </p:nvSpPr>
        <p:spPr>
          <a:xfrm>
            <a:off x="6372360" y="4573440"/>
            <a:ext cx="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5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-71280"/>
            <a:ext cx="9217080" cy="6929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3635280" y="1628640"/>
            <a:ext cx="47530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4" name="Picture 4" descr="2"/>
          <p:cNvPicPr/>
          <p:nvPr/>
        </p:nvPicPr>
        <p:blipFill>
          <a:blip r:embed="rId1"/>
          <a:stretch/>
        </p:blipFill>
        <p:spPr>
          <a:xfrm>
            <a:off x="179280" y="692280"/>
            <a:ext cx="3672000" cy="547344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4"/>
          <p:cNvSpPr/>
          <p:nvPr/>
        </p:nvSpPr>
        <p:spPr>
          <a:xfrm>
            <a:off x="8604360" y="6453360"/>
            <a:ext cx="53964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26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684360" y="549360"/>
            <a:ext cx="7775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000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глубокой древности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8000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9640" y="321300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Arial"/>
              </a:rPr>
              <a:t>Сначала люди не умели записывать числа при помощи цифр. Чтобы записать какое-то число, они просто повторяли один и тот же знак, символизирующий единицу. Поэтому такой способ назвали единичной системой счисления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1" name="Picture 8" descr="Рисунок1"/>
          <p:cNvPicPr/>
          <p:nvPr/>
        </p:nvPicPr>
        <p:blipFill>
          <a:blip r:embed="rId2"/>
          <a:stretch/>
        </p:blipFill>
        <p:spPr>
          <a:xfrm>
            <a:off x="250920" y="404640"/>
            <a:ext cx="8642160" cy="6069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6" name="Picture 4" descr="Рисунок1"/>
          <p:cNvPicPr/>
          <p:nvPr/>
        </p:nvPicPr>
        <p:blipFill>
          <a:blip r:embed="rId2"/>
          <a:stretch/>
        </p:blipFill>
        <p:spPr>
          <a:xfrm>
            <a:off x="396720" y="252360"/>
            <a:ext cx="8350560" cy="63532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9" name="Picture 4" descr="Рисунок2"/>
          <p:cNvPicPr/>
          <p:nvPr/>
        </p:nvPicPr>
        <p:blipFill>
          <a:blip r:embed="rId2"/>
          <a:stretch/>
        </p:blipFill>
        <p:spPr>
          <a:xfrm>
            <a:off x="179280" y="182520"/>
            <a:ext cx="8785440" cy="6492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84360" y="189000"/>
            <a:ext cx="7848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В Древнем Египте...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33" name="Picture 7" descr="Egypt"/>
          <p:cNvPicPr/>
          <p:nvPr/>
        </p:nvPicPr>
        <p:blipFill>
          <a:blip r:embed="rId2"/>
          <a:stretch/>
        </p:blipFill>
        <p:spPr>
          <a:xfrm>
            <a:off x="324000" y="2924280"/>
            <a:ext cx="4582800" cy="343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Древнее царство"/>
          <p:cNvPicPr/>
          <p:nvPr/>
        </p:nvPicPr>
        <p:blipFill>
          <a:blip r:embed="rId3"/>
          <a:stretch/>
        </p:blipFill>
        <p:spPr>
          <a:xfrm>
            <a:off x="5076720" y="2924280"/>
            <a:ext cx="3708360" cy="3440160"/>
          </a:xfrm>
          <a:prstGeom prst="rect">
            <a:avLst/>
          </a:prstGeom>
          <a:ln w="0">
            <a:noFill/>
          </a:ln>
        </p:spPr>
      </p:pic>
      <p:sp>
        <p:nvSpPr>
          <p:cNvPr id="135" name="WordArt 9"/>
          <p:cNvSpPr txBox="1"/>
          <p:nvPr/>
        </p:nvSpPr>
        <p:spPr>
          <a:xfrm>
            <a:off x="971640" y="3429000"/>
            <a:ext cx="7057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ff0000"/>
                  </a:solidFill>
                  <a:miter/>
                </a:ln>
                <a:solidFill>
                  <a:srgbClr val="f9f0d3"/>
                </a:solidFill>
                <a:latin typeface="Arial"/>
              </a:rPr>
              <a:t>3000 лет до н.э.</a:t>
            </a:r>
            <a:endParaRPr b="1" lang="en-US" sz="1800" spc="1" strike="noStrike">
              <a:ln w="41400">
                <a:solidFill>
                  <a:srgbClr val="ff0000"/>
                </a:solidFill>
                <a:miter/>
              </a:ln>
              <a:solidFill>
                <a:srgbClr val="f9f0d3"/>
              </a:solidFill>
              <a:latin typeface="Arial"/>
              <a:ea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4140360" y="2276640"/>
            <a:ext cx="4464000" cy="3833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Изображение:Piramida Unisa Perednjaja.jpg"/>
          <p:cNvPicPr/>
          <p:nvPr/>
        </p:nvPicPr>
        <p:blipFill>
          <a:blip r:embed="rId3"/>
          <a:stretch/>
        </p:blipFill>
        <p:spPr>
          <a:xfrm>
            <a:off x="179280" y="549360"/>
            <a:ext cx="3756240" cy="534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papirus"/>
          <p:cNvPicPr/>
          <p:nvPr/>
        </p:nvPicPr>
        <p:blipFill>
          <a:blip r:embed="rId4"/>
          <a:stretch/>
        </p:blipFill>
        <p:spPr>
          <a:xfrm>
            <a:off x="5003640" y="404640"/>
            <a:ext cx="2857680" cy="16383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8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684360" y="189000"/>
            <a:ext cx="7848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В Древнем Египте...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348000" y="28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Тысяча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442764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Десять тысяч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5508720" y="2565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Сто тысяч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6516720" y="285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Миллион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7667640" y="2565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Десять миллионов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340000" y="28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Сто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042920" y="28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Десять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25092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Один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52" name="Picture 27" descr="Рисунок4"/>
          <p:cNvPicPr/>
          <p:nvPr/>
        </p:nvPicPr>
        <p:blipFill>
          <a:blip r:embed="rId2"/>
          <a:stretch/>
        </p:blipFill>
        <p:spPr>
          <a:xfrm>
            <a:off x="395280" y="3213000"/>
            <a:ext cx="8497800" cy="29052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2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ffe3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9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3:17:16Z</dcterms:created>
  <dc:creator>привет</dc:creator>
  <dc:description/>
  <dc:language>en-US</dc:language>
  <cp:lastModifiedBy>05042000</cp:lastModifiedBy>
  <dcterms:modified xsi:type="dcterms:W3CDTF">2018-04-24T19:13:34Z</dcterms:modified>
  <cp:revision>81</cp:revision>
  <dc:subject/>
  <dc:title>Слайд 1</dc:title>
</cp:coreProperties>
</file>